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ntroduzione a Window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41240" y="4578120"/>
            <a:ext cx="8772480" cy="23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Raffaele Miele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rafmiele@unina.it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La barra delle applicazioni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41240" y="1949400"/>
            <a:ext cx="87724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Si trova, in genere, nella parte inferiore dello schermo, anche se può essere spostata. Ci propone, oltre al pulsante start: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Un'icona per ogni applicazione in esecuzione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Delle icone, a destra del pulsante start, che permettono di avviare, con un solo click delle applicazioni (avvio veloce).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La barra dell'orologio e delle applicazioni in esecuzione (system tray)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Per modificarne le impostazioni: click destro sulla barra -&gt; Proprietà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Gestione files e cartell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Windows ci mette a disposizione il programma explorer, conosciuto meglio come “esplora risorse”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Per accedervi: menu avvio -&gt; programmi -&gt; accessori -&gt; esplora risorse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oppure “tasto windows + e”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Explore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78120" y="1461960"/>
            <a:ext cx="6594480" cy="52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reazione di files e cartell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41320" y="1501920"/>
            <a:ext cx="5481720" cy="4113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80920" y="5800680"/>
            <a:ext cx="8643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66"/>
                </a:solidFill>
                <a:latin typeface="Times New Roman"/>
              </a:rPr>
              <a:t>Oppure: click destro -&gt; Nuovo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elezion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lezione singola: click con il tasto sinistro del mous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lezione multipla: click sinistro del mouse e trascinamento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er selezionare aree non contigue: utilizzo del tarsto CTRL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elezion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39840" y="2708280"/>
            <a:ext cx="3101760" cy="282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916680" y="2697120"/>
            <a:ext cx="2859120" cy="3219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608280" y="2719440"/>
            <a:ext cx="304812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41280" y="1620720"/>
            <a:ext cx="2816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66"/>
                </a:solidFill>
                <a:latin typeface="Times New Roman"/>
              </a:rPr>
              <a:t>Selezione sing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68680" y="1635120"/>
            <a:ext cx="2816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66"/>
                </a:solidFill>
                <a:latin typeface="Times New Roman"/>
              </a:rPr>
              <a:t>Selezione multipla (con trascin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80320" y="1620720"/>
            <a:ext cx="2816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66"/>
                </a:solidFill>
                <a:latin typeface="Times New Roman"/>
              </a:rPr>
              <a:t>Selezione multipla (con tasto CTR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pia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Copiare un file significa duplicare delle informazioni. Quando, ad esempio, si copia un documento su un dischetto, si crea un file identico a quello originale. Per creare la copia di qualsiasi elemento, il computer deve conoscere tre informazioni fondamentali: il nome dell’elemento, il percorso di origine (cioè in quale unità e cartella risiede) e il percorso di destinazione (ossia l’unità e la cartella in cui deve essere copiato)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pia di un file via do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70040" y="1763640"/>
            <a:ext cx="864072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pia di un file via window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lezione del file origine (click sinistro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celta dell'opzione copia (via menu di windows, via tasto destro, via tastiera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lezione della cartella di destinazione (click sinistro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vvio della copia (via menu windows, via tasto destro, via tastiera)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olto più intuitivo e sempli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Drag and drop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amite il drag and drop è possibile effettuare operazioni su files e altri oggetti di windows senza usare menu e pulsanti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i effettua “prendendo“ un file con il click sinistro, trascinandolo (drag) con il mouse (senza lasciare il pulsante sinistro) e “lasciandolo cadere” (drop) nella cartella destinazione (tramite il rilascio del pulsante sinistro del mouse)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ffettuando il drag and drop con il pulsante destro abbiamo a disposizione più scelte (copiare, spostare, creare collegamento)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L'interfaccia di Window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8400" y="2928960"/>
            <a:ext cx="8772480" cy="24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28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'interfaccia del sistema Windows si basa su un sistema molto evoluto (mutuato dalle interfacce dei computer apple) che permette di gestire il sistema (almeno nelle sue funzioni più semplici e di utilizzo quotidiano) tramite il mouse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llegamenti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indows mette a disposizione un modo veloce per richiamare files e cartelle: i collegamenti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18680" indent="-313920" algn="just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Quando si crea un collegamento a un file, a una cartella o a un programma, si crea un insieme di informazioni che indicano il nome del file, della cartella o del programma e la sua posizione facendo doppio clic sull’icona del collegamento, queste informazioni vengono impiegate per aprire il documento, la cartella o avviare l’applicazione a cui il collegamento si riferis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llegamenti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i collegamenti si associa un'icona. Le icone dei collegamenti hanno sempre una piccola freccia nell'angolo inferiore sinistro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amite Esplora risorse (explorer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amite il mous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lick destr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rag and drop con il pulsante destro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Funzionalità dell'interfaccia grafic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piare un dischetto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inominare un file o una cartella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liminare dei fil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l cestin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icercare files e cartell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igitare i caratteri usando il mouse (tastiera su schermo)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mministrare il sistema tramite il pannello di controllo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L'interfaccia di Window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54240" y="1515960"/>
          <a:ext cx="75754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1515960"/>
                    <a:ext cx="75754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l Desktop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indows ci permette di organizzare il nostro lavoro su una cartella chiamata Desktop di cui ci fornisce un'interfaccia grafica personalizzabile (sfondo, risoluzione, screen saver, etc.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mponenti dell'interfacci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36600" y="1298520"/>
            <a:ext cx="7478640" cy="56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Finestra di un'applicazion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74840" y="1685880"/>
          <a:ext cx="5245200" cy="46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4840" y="1685880"/>
                    <a:ext cx="52452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cone di sistem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ono le icone, sempre visibili sul desktop (o quasi), che permettono di accedere alle applicazioni di sistema. Queste sono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isorse del compute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isorse di ret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incronia file (opzionale)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estin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ost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ternet explore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ersonalizzare il desktop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89280" y="2178000"/>
            <a:ext cx="4491000" cy="4630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50920" y="1463760"/>
            <a:ext cx="7521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66"/>
                </a:solidFill>
                <a:latin typeface="Times New Roman"/>
              </a:rPr>
              <a:t>Tasto destro sul desktop -&gt; Propri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l menu star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ermette di accedere a tutti i componenti del sistema (Applicazioni, funzioni di ricerca, configurazzioni, programmi, utilità, etc.)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66920" y="2063880"/>
            <a:ext cx="3254400" cy="454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